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7C9-9C77-44B3-AD0F-CFB2856B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9D8-17D0-41B6-9F4D-FF087BC4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486-C679-4A5A-891F-9359950D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7755-CEF0-4147-BD01-8D389D6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3B0-BC6A-4314-A246-80CEE8A5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D0D0-36BF-4480-A9DB-331F3386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3ED-1795-4D04-AB57-5F9ED6C5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E15-A8DA-4BF6-AFB3-8E63DE63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2910-35AE-4DA2-A014-49671AAF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08D5-BA68-4904-9478-92D77CF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002-DA84-40B1-A673-9F9C2969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BD3-2D24-4DBF-85D3-A0E541EA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5AA2-B846-4B97-8FA5-45D98B82C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shion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Navit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4056120" cy="4952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33:24Z</dcterms:created>
  <dc:creator>Greg Navitsky</dc:creator>
  <dc:description/>
  <dc:language>en-US</dc:language>
  <cp:lastModifiedBy>Greg Navitsky</cp:lastModifiedBy>
  <dcterms:modified xsi:type="dcterms:W3CDTF">2012-05-24T01:04:27Z</dcterms:modified>
  <cp:revision>2</cp:revision>
  <dc:subject/>
  <dc:title>Slide 1</dc:title>
</cp:coreProperties>
</file>